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564-E406-444F-9F8D-E4F65718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13BC-0344-49FE-826C-9EE3ECD779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8C2-7AAA-4604-A91F-927FAECDF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F37-93C3-46F3-980C-E708CAE151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4AB-5AB4-47C7-97C1-311FF33F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F0C-20B7-4DDD-A755-E4216F8D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FCA-72DE-46A5-924B-A0EB4B26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11E-F42D-4246-89F4-58200AD0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7F7-1DD4-441A-AB2E-9392B8BD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0CA-3F83-4CB0-A772-53472C6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D84-449D-4C59-88F2-8A985E85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60E-D696-43D0-9DFD-2022939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326-F12C-432A-89F1-BBC24C5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991A-A125-4AC4-82E2-ABA306EA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9826-BE6F-4D0C-8418-69C0328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741-99F4-4380-ACDB-7DF546AE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55D4-406F-4B14-B147-E8D7F97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D2B1-F64B-443E-9D55-4AA71CD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21B-BC99-408F-9616-C7D8F683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BF40-19A9-44AD-A7A9-A0B04FEE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54D-676E-484C-8074-BC42717D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F75-2A1F-4B2C-8058-60F5CE4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812-14FC-4D40-ADC6-81B936D9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51F-3980-403D-BDB4-DB8674C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AFC-66B8-4E01-95D4-A7C8A202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EB2-1A84-4A19-9AE5-5AFD483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288-4528-4FB5-98B1-B135EA9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2BA-4B77-4F79-865E-FDF754B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60BD-7670-42AF-A655-FA796EB1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E34-4C46-4D90-86EF-181D81370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ypes of Government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Q = OPEN NOTE 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questions on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xchange papers when everyone i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TALK……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four primary purposes of Govern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349360" y="2666880"/>
            <a:ext cx="44452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In which type of Government do the people have the MOST political vo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152800" y="2971800"/>
            <a:ext cx="4838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90320"/>
            <a:ext cx="86868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In which type of Government do the people have the LEAST political vo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43200" y="3613320"/>
            <a:ext cx="3967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06T17:17:58Z</dcterms:modified>
  <cp:revision>128</cp:revision>
  <dc:subject/>
  <dc:title>D/O: TO EXPLAIN AND IDENTIFY PROBLEMS OF ECONOMICS</dc:title>
</cp:coreProperties>
</file>